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752-B36A-4D94-B5E3-83546DE0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458-91DE-440D-9BBA-A122E8BB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AFE72-6CBB-49B5-BE78-DE62E3A3646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E1D1C-2048-424D-A9A0-ECF8F7B42B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CCDCA-09F0-48A7-97B7-D9C6A72C242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61997-511D-49A5-9FEC-9E72B626454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1E963B-5A29-4DC0-A7A5-3A11A2DD87E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46DA5-45CA-4CB5-A92B-51FA9DFB0A8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79F6D-8ED1-4195-815A-EF84AEDAE0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26104-E810-4A9B-82A0-D25FD58E44D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D2FDD-578E-4E70-B9DD-F4BEAF153FA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462-8F79-4A69-9B1B-BE45849C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AE0-27CE-4EAC-B9AC-11E3573E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6F5A-D6F7-49D1-99DA-45B6E3F0E94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CD44-E43D-4E8C-B9C4-090483221FF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A01A-5ABC-49E6-9F15-4CF1A086D72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DFACB-CA21-431F-9610-57429AE74D2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5273-C1E8-4ACE-94A8-4469DE25E01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9443-9726-4AA6-A373-503EC7AAF07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E63D-475F-4569-B92A-27C81EA64A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4859C-FD78-4DEE-B830-07B8135E7A2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14E91-87E8-4856-9F18-111EABD77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978AB-DB8F-4550-9C15-BDCDCAED083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BC0CF-8862-47BF-8A59-3F03E545770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94311-DD3F-4759-9167-492094B6C78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55E17-3B78-4FE1-BC4B-5FB81DC8438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13B15-6504-4E2A-BA61-0434AD19D38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08853-2496-4EA2-BCA7-2FF9C5EEC7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E9576-3AE1-436C-861A-7C7FEA1D73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D1E15-A447-4F0D-B99D-6C534BA883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1FCAE-1C83-4039-9076-3E261C16AD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4B914-3831-43B0-B1D3-B1D298EF60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C66-FFAC-4725-89EA-D07607B4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A340B-4AA5-4BA3-9B7F-025A200E34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D02EA-2E9F-4097-8A9B-29C973C00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CAAB6-E849-4AD5-92E9-E729FA7857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41597-C738-48F1-AC4E-FAA4A9DFB7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83719-E820-4484-BAA5-285740AB97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BA854-4426-4506-A590-CAAD8F8A25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FBB88-916B-465D-9BE5-BAA408CC0D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15296-F87B-4071-B1C5-C1ACB8269A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3B397-A0BC-4FD6-A28E-A2C179D591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04BAD-4726-4868-AF91-04E8E69660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3C3-9151-4C4F-946D-43A8CF47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9E47E-A915-49FD-8570-D474BA59EF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A244F-BE38-4846-9811-F0E18EA8EE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0DEBE-0AED-4F72-AFF3-035DA1E66A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1836F-F636-42AE-B0A9-44938030DC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E2925-0A61-42EE-B6BD-9A5401F2D2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BDE27-B697-4B43-A033-A334D01B20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58E3D-DAEF-44FA-B4C8-0AB6C5694B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3EEAA-1BE3-41B1-BB8C-6B7F3158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72345-6B65-4DBE-9EDE-A5CE2978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121B9-237C-4B46-A799-FDE634B4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02D-F982-42BB-8A10-926D1BA7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FABF4-D397-4EE8-AD32-5F225126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E1DE3-A970-4DFB-97AE-329409C6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E4077-5D21-4AD0-A0EB-418AFB5A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CA8CC-37DE-4276-99C4-327CC815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14A25-7DFF-4E68-83C1-634F419A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4753C-233C-43D3-AECE-96FA7CD1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61AD8-B550-462E-B819-87C731B5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546CE-1597-4838-9C3C-E0837587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1D4FD-9E56-4891-81F9-63892BDF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DEC-27E5-4E4D-8504-0EA6BC99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401-F36F-46CC-984C-6B68D70A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8750-9B73-46EC-BA38-980028458B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1B8C-88A8-4562-B973-72FC0EA39E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547D-5942-4000-813D-D9DFB793B8D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8949-078B-468D-84C8-B408E6D102D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B2A1-5221-4A04-B33A-DF4C4E27482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8A5B-9F16-4DFE-83C4-26CD17C39C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3EBD-7D0C-4BCC-AE1F-D3DB9B072F3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8B0F-852B-4974-BA54-4BF842C91B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CABA-26A9-46A4-89CF-D5818625E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8E1-0E2B-4D4E-9894-916D2B6C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F98CF-6503-4F8A-A15E-B5784A0D2D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4933-2185-4B69-967A-4C416F3E20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7F00-192E-4BC4-B6EB-3FADED5A6B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B15-79D4-41C9-AC9F-8F4B6B0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84ACDC-F2BE-4FB3-B62B-A721DD11EA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BD141-113B-4648-B774-42761E29831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E80BD1-5F3C-4251-AD72-C63151E7255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9E040-584F-45C6-9631-80B68E62DC2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0B83CE-D7EA-490E-BFDB-A0EBEE456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8AD-F7CE-41C4-B092-6BAB463D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B4AC9-DAF2-408B-B82B-864D4195DC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32111-AA3D-47BA-9444-8EC3E13856F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66D8A-C148-4D33-8A45-382F383E6FB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F3A94-3F71-4A66-9AF2-23CF6B8D5AF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C0323A-D231-444C-BCED-83C60726272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1BF2C-DB8A-40C6-BD2C-3E3FDF638ED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8AF8F-EEB7-4784-A1FD-F25E081DA91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FE032-0D9E-4505-BA09-A448546B161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D9224F-CAD0-4812-846C-9B7AE723901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3CBFC-E954-4503-8EB9-27BF142D8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6960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bed9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4ebed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2217600"/>
            <a:ext cx="77724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1" marL="720720" indent="-266760">
              <a:spcBef>
                <a:spcPts val="400"/>
              </a:spcBef>
              <a:buClr>
                <a:srgbClr val="555a5d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2" marL="1074600" indent="-160200">
              <a:spcBef>
                <a:spcPts val="400"/>
              </a:spcBef>
              <a:buClr>
                <a:srgbClr val="555a5d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3" marL="1611360" indent="-239760">
              <a:spcBef>
                <a:spcPts val="400"/>
              </a:spcBef>
              <a:buClr>
                <a:srgbClr val="555a5d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555a5d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3640" y="6399360"/>
            <a:ext cx="106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ebe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A5C2-DEEB-49E6-8DFF-599DC5A4451F}" type="datetime">
              <a:rPr b="0" lang="nl-NL" sz="1200" spc="-1" strike="noStrike">
                <a:solidFill>
                  <a:srgbClr val="4ebed9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4680" y="6399360"/>
            <a:ext cx="489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240" y="6399360"/>
            <a:ext cx="65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ebe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C833-2EE4-459D-A6DC-54BD8B08110A}" type="slidenum">
              <a:rPr b="0" lang="nl-NL" sz="1200" spc="-1" strike="noStrike">
                <a:solidFill>
                  <a:srgbClr val="4ebed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図 8" descr="GSI.png"/>
          <p:cNvPicPr/>
          <p:nvPr/>
        </p:nvPicPr>
        <p:blipFill>
          <a:blip r:embed="rId2"/>
          <a:stretch/>
        </p:blipFill>
        <p:spPr>
          <a:xfrm>
            <a:off x="1203480" y="6553080"/>
            <a:ext cx="1388880" cy="127080"/>
          </a:xfrm>
          <a:prstGeom prst="rect">
            <a:avLst/>
          </a:prstGeom>
          <a:ln w="0">
            <a:noFill/>
          </a:ln>
        </p:spPr>
      </p:pic>
      <p:grpSp>
        <p:nvGrpSpPr>
          <p:cNvPr id="369" name="グループ化 1"/>
          <p:cNvGrpSpPr/>
          <p:nvPr/>
        </p:nvGrpSpPr>
        <p:grpSpPr>
          <a:xfrm>
            <a:off x="0" y="2495520"/>
            <a:ext cx="968400" cy="1887480"/>
            <a:chOff x="0" y="2495520"/>
            <a:chExt cx="968400" cy="1887480"/>
          </a:xfrm>
        </p:grpSpPr>
        <p:sp>
          <p:nvSpPr>
            <p:cNvPr id="370" name="正方形/長方形 7"/>
            <p:cNvSpPr/>
            <p:nvPr/>
          </p:nvSpPr>
          <p:spPr>
            <a:xfrm>
              <a:off x="0" y="3822840"/>
              <a:ext cx="968400" cy="560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正方形/長方形 17"/>
            <p:cNvSpPr/>
            <p:nvPr/>
          </p:nvSpPr>
          <p:spPr>
            <a:xfrm>
              <a:off x="0" y="2495520"/>
              <a:ext cx="968400" cy="13273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2" name="Picture 47" descr=""/>
          <p:cNvPicPr/>
          <p:nvPr/>
        </p:nvPicPr>
        <p:blipFill>
          <a:blip r:embed="rId3"/>
          <a:stretch/>
        </p:blipFill>
        <p:spPr>
          <a:xfrm>
            <a:off x="7910640" y="0"/>
            <a:ext cx="1047600" cy="774720"/>
          </a:xfrm>
          <a:prstGeom prst="rect">
            <a:avLst/>
          </a:prstGeom>
          <a:ln w="0">
            <a:noFill/>
          </a:ln>
        </p:spPr>
      </p:pic>
      <p:sp>
        <p:nvSpPr>
          <p:cNvPr id="373" name="正方形/長方形 3"/>
          <p:cNvSpPr/>
          <p:nvPr/>
        </p:nvSpPr>
        <p:spPr>
          <a:xfrm>
            <a:off x="7230960" y="6453360"/>
            <a:ext cx="16909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テキスト ボックス 9"/>
          <p:cNvSpPr/>
          <p:nvPr/>
        </p:nvSpPr>
        <p:spPr>
          <a:xfrm>
            <a:off x="7232760" y="6513480"/>
            <a:ext cx="1689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404040"/>
                </a:solidFill>
                <a:latin typeface="Lucida Sans Unicode"/>
                <a:ea typeface="Meiryo"/>
              </a:rPr>
              <a:t>© 2016 Konica Minolta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0520" y="188640"/>
            <a:ext cx="6807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グループ化 6"/>
          <p:cNvGrpSpPr/>
          <p:nvPr/>
        </p:nvGrpSpPr>
        <p:grpSpPr>
          <a:xfrm>
            <a:off x="0" y="2495520"/>
            <a:ext cx="9144000" cy="1887480"/>
            <a:chOff x="0" y="2495520"/>
            <a:chExt cx="9144000" cy="1887480"/>
          </a:xfrm>
        </p:grpSpPr>
        <p:sp>
          <p:nvSpPr>
            <p:cNvPr id="413" name="正方形/長方形 17"/>
            <p:cNvSpPr/>
            <p:nvPr/>
          </p:nvSpPr>
          <p:spPr>
            <a:xfrm>
              <a:off x="0" y="2495520"/>
              <a:ext cx="9144000" cy="13273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正方形/長方形 18"/>
            <p:cNvSpPr/>
            <p:nvPr/>
          </p:nvSpPr>
          <p:spPr>
            <a:xfrm>
              <a:off x="0" y="3822840"/>
              <a:ext cx="9144000" cy="560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5" name="図 8" descr="GSI.png"/>
          <p:cNvPicPr/>
          <p:nvPr/>
        </p:nvPicPr>
        <p:blipFill>
          <a:blip r:embed="rId2"/>
          <a:stretch/>
        </p:blipFill>
        <p:spPr>
          <a:xfrm>
            <a:off x="1203480" y="6553080"/>
            <a:ext cx="1388880" cy="127080"/>
          </a:xfrm>
          <a:prstGeom prst="rect">
            <a:avLst/>
          </a:prstGeom>
          <a:ln w="0">
            <a:noFill/>
          </a:ln>
        </p:spPr>
      </p:pic>
      <p:sp>
        <p:nvSpPr>
          <p:cNvPr id="416" name="テキスト ボックス 9"/>
          <p:cNvSpPr/>
          <p:nvPr/>
        </p:nvSpPr>
        <p:spPr>
          <a:xfrm>
            <a:off x="6931080" y="6513480"/>
            <a:ext cx="168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404040"/>
                </a:solidFill>
                <a:latin typeface="Lucida Sans Unicode"/>
                <a:ea typeface="Meiryo"/>
              </a:rPr>
              <a:t>© 2016 Konica Minolta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520" y="188640"/>
            <a:ext cx="6807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Num" idx="12"/>
          </p:nvPr>
        </p:nvSpPr>
        <p:spPr>
          <a:xfrm>
            <a:off x="8621280" y="6470640"/>
            <a:ext cx="336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700" spc="-1" strike="noStrike" u="sng">
                <a:solidFill>
                  <a:srgbClr val="7f7f7f"/>
                </a:solidFill>
                <a:uFillTx/>
                <a:latin typeface="Meiryo"/>
                <a:ea typeface="Meiry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35CC-FF43-4A10-862D-A069479DDFC4}" type="slidenum">
              <a:rPr b="1" lang="ja-JP" sz="700" spc="-1" strike="noStrike" u="sng">
                <a:solidFill>
                  <a:srgbClr val="7f7f7f"/>
                </a:solidFill>
                <a:uFillTx/>
                <a:latin typeface="Meiryo"/>
                <a:ea typeface="Meiryo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47" descr=""/>
          <p:cNvPicPr/>
          <p:nvPr/>
        </p:nvPicPr>
        <p:blipFill>
          <a:blip r:embed="rId2"/>
          <a:stretch/>
        </p:blipFill>
        <p:spPr>
          <a:xfrm>
            <a:off x="2914560" y="2206800"/>
            <a:ext cx="3299040" cy="24350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50520" y="188640"/>
            <a:ext cx="6807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8150040" y="6392520"/>
            <a:ext cx="927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20840"/>
                <a:tab algn="l" pos="841320"/>
                <a:tab algn="l" pos="1262160"/>
                <a:tab algn="l" pos="1682640"/>
                <a:tab algn="l" pos="2103480"/>
                <a:tab algn="l" pos="2523960"/>
                <a:tab algn="l" pos="2944800"/>
                <a:tab algn="l" pos="3365640"/>
                <a:tab algn="l" pos="3786120"/>
                <a:tab algn="l" pos="4206960"/>
                <a:tab algn="l" pos="4627440"/>
                <a:tab algn="l" pos="5048280"/>
                <a:tab algn="l" pos="5468760"/>
                <a:tab algn="l" pos="5889600"/>
                <a:tab algn="l" pos="6310440"/>
                <a:tab algn="l" pos="6730920"/>
                <a:tab algn="l" pos="7151760"/>
                <a:tab algn="l" pos="7572240"/>
                <a:tab algn="l" pos="7993080"/>
                <a:tab algn="l" pos="8413920"/>
              </a:tabLst>
              <a:defRPr b="1" lang="ja-JP" sz="2400" spc="-1" strike="noStrike" u="sng">
                <a:solidFill>
                  <a:srgbClr val="7f7f7f"/>
                </a:solidFill>
                <a:uFillTx/>
                <a:latin typeface="Meiryo"/>
                <a:ea typeface="Meiry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20840"/>
                <a:tab algn="l" pos="841320"/>
                <a:tab algn="l" pos="1262160"/>
                <a:tab algn="l" pos="1682640"/>
                <a:tab algn="l" pos="2103480"/>
                <a:tab algn="l" pos="2523960"/>
                <a:tab algn="l" pos="2944800"/>
                <a:tab algn="l" pos="3365640"/>
                <a:tab algn="l" pos="3786120"/>
                <a:tab algn="l" pos="4206960"/>
                <a:tab algn="l" pos="4627440"/>
                <a:tab algn="l" pos="5048280"/>
                <a:tab algn="l" pos="5468760"/>
                <a:tab algn="l" pos="5889600"/>
                <a:tab algn="l" pos="6310440"/>
                <a:tab algn="l" pos="6730920"/>
                <a:tab algn="l" pos="7151760"/>
                <a:tab algn="l" pos="7572240"/>
                <a:tab algn="l" pos="7993080"/>
                <a:tab algn="l" pos="8413920"/>
              </a:tabLst>
            </a:pPr>
            <a:fld id="{2D1865CB-DF8B-45A0-8FB4-39D33B7624A3}" type="slidenum">
              <a:rPr b="1" lang="ja-JP" sz="2400" spc="-1" strike="noStrike" u="sng">
                <a:solidFill>
                  <a:srgbClr val="7f7f7f"/>
                </a:solidFill>
                <a:uFillTx/>
                <a:latin typeface="Meiryo"/>
                <a:ea typeface="Meiryo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テキスト ボックス 3"/>
          <p:cNvSpPr/>
          <p:nvPr/>
        </p:nvSpPr>
        <p:spPr>
          <a:xfrm>
            <a:off x="7250760" y="938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Meiryo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Num" idx="5"/>
          </p:nvPr>
        </p:nvSpPr>
        <p:spPr>
          <a:xfrm>
            <a:off x="8481600" y="6470280"/>
            <a:ext cx="662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200" spc="-1" strike="noStrike" u="sng">
                <a:solidFill>
                  <a:srgbClr val="7f7f7f"/>
                </a:solidFill>
                <a:uFillTx/>
                <a:latin typeface="Lucida Sans Unicode"/>
                <a:ea typeface="Meiry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F7B-1233-4D7A-96E9-DD56C9D16ECB}" type="slidenum">
              <a:rPr b="1" lang="ja-JP" sz="2200" spc="-1" strike="noStrike" u="sng">
                <a:solidFill>
                  <a:srgbClr val="7f7f7f"/>
                </a:solidFill>
                <a:uFillTx/>
                <a:latin typeface="Lucida Sans Unicode"/>
                <a:ea typeface="Meiryo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正方形/長方形 2"/>
          <p:cNvSpPr/>
          <p:nvPr/>
        </p:nvSpPr>
        <p:spPr>
          <a:xfrm>
            <a:off x="0" y="774720"/>
            <a:ext cx="9134640" cy="189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図形グループ 3"/>
          <p:cNvGrpSpPr/>
          <p:nvPr/>
        </p:nvGrpSpPr>
        <p:grpSpPr>
          <a:xfrm>
            <a:off x="393840" y="0"/>
            <a:ext cx="106200" cy="774720"/>
            <a:chOff x="393840" y="0"/>
            <a:chExt cx="106200" cy="774720"/>
          </a:xfrm>
        </p:grpSpPr>
        <p:sp>
          <p:nvSpPr>
            <p:cNvPr id="82" name="正方形/長方形 7"/>
            <p:cNvSpPr/>
            <p:nvPr/>
          </p:nvSpPr>
          <p:spPr>
            <a:xfrm>
              <a:off x="393840" y="585720"/>
              <a:ext cx="106200" cy="189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正方形/長方形 6"/>
            <p:cNvSpPr/>
            <p:nvPr/>
          </p:nvSpPr>
          <p:spPr>
            <a:xfrm>
              <a:off x="393840" y="0"/>
              <a:ext cx="106200" cy="585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47" descr=""/>
          <p:cNvPicPr/>
          <p:nvPr/>
        </p:nvPicPr>
        <p:blipFill>
          <a:blip r:embed="rId2"/>
          <a:stretch/>
        </p:blipFill>
        <p:spPr>
          <a:xfrm>
            <a:off x="7910640" y="0"/>
            <a:ext cx="1047600" cy="774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50520" y="188640"/>
            <a:ext cx="6807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テキスト ボックス 11"/>
          <p:cNvSpPr/>
          <p:nvPr/>
        </p:nvSpPr>
        <p:spPr>
          <a:xfrm>
            <a:off x="6931080" y="6513480"/>
            <a:ext cx="168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404040"/>
                </a:solidFill>
                <a:latin typeface="Lucida Sans Unicode"/>
                <a:ea typeface="Meiryo"/>
              </a:rPr>
              <a:t>© 2016 Konica Minolta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D142-DEE6-48C3-A653-EE84BB55F960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2C8C-4BEE-4F39-9E99-D457F3A0930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7240" y="66960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bed9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4ebed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7240" y="2217600"/>
            <a:ext cx="77724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1" marL="720720" indent="-266760">
              <a:spcBef>
                <a:spcPts val="400"/>
              </a:spcBef>
              <a:buClr>
                <a:srgbClr val="555a5d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2" marL="1074600" indent="-160200">
              <a:spcBef>
                <a:spcPts val="400"/>
              </a:spcBef>
              <a:buClr>
                <a:srgbClr val="555a5d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3" marL="1611360" indent="-239760">
              <a:spcBef>
                <a:spcPts val="400"/>
              </a:spcBef>
              <a:buClr>
                <a:srgbClr val="555a5d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555a5d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7240" y="66960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bed9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4ebed9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7240" y="2217600"/>
            <a:ext cx="77724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1" marL="720720" indent="-266760">
              <a:spcBef>
                <a:spcPts val="400"/>
              </a:spcBef>
              <a:buClr>
                <a:srgbClr val="555a5d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2" marL="1074600" indent="-160200">
              <a:spcBef>
                <a:spcPts val="400"/>
              </a:spcBef>
              <a:buClr>
                <a:srgbClr val="555a5d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3" marL="1611360" indent="-239760">
              <a:spcBef>
                <a:spcPts val="400"/>
              </a:spcBef>
              <a:buClr>
                <a:srgbClr val="555a5d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555a5d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55a5d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555a5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9"/>
          </p:nvPr>
        </p:nvSpPr>
        <p:spPr>
          <a:xfrm>
            <a:off x="8686440" y="6477120"/>
            <a:ext cx="546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E8EA-5DAC-4DB5-B95A-8748E0D8F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テキスト ボックス 9"/>
          <p:cNvSpPr/>
          <p:nvPr/>
        </p:nvSpPr>
        <p:spPr>
          <a:xfrm>
            <a:off x="7232760" y="6513480"/>
            <a:ext cx="1689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20840"/>
                <a:tab algn="l" pos="841320"/>
                <a:tab algn="l" pos="1262160"/>
                <a:tab algn="l" pos="1682640"/>
                <a:tab algn="l" pos="2103480"/>
                <a:tab algn="l" pos="2523960"/>
                <a:tab algn="l" pos="2944800"/>
                <a:tab algn="l" pos="3365640"/>
                <a:tab algn="l" pos="3786120"/>
                <a:tab algn="l" pos="4206960"/>
                <a:tab algn="l" pos="4627440"/>
                <a:tab algn="l" pos="5048280"/>
                <a:tab algn="l" pos="5468760"/>
                <a:tab algn="l" pos="5889600"/>
                <a:tab algn="l" pos="6310440"/>
                <a:tab algn="l" pos="6730920"/>
                <a:tab algn="l" pos="7151760"/>
                <a:tab algn="l" pos="7572240"/>
                <a:tab algn="l" pos="7993080"/>
                <a:tab algn="l" pos="8413920"/>
              </a:tabLst>
            </a:pPr>
            <a:r>
              <a:rPr b="0" lang="it-IT" sz="700" spc="-1" strike="noStrike">
                <a:solidFill>
                  <a:srgbClr val="404040"/>
                </a:solidFill>
                <a:latin typeface="Arial"/>
                <a:ea typeface="Meiryo"/>
              </a:rPr>
              <a:t>© 2016 Konica Minolta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図 8" descr="GSI.png"/>
          <p:cNvPicPr/>
          <p:nvPr/>
        </p:nvPicPr>
        <p:blipFill>
          <a:blip r:embed="rId2"/>
          <a:stretch/>
        </p:blipFill>
        <p:spPr>
          <a:xfrm>
            <a:off x="1203480" y="6553080"/>
            <a:ext cx="1388880" cy="127080"/>
          </a:xfrm>
          <a:prstGeom prst="rect">
            <a:avLst/>
          </a:prstGeom>
          <a:ln w="0">
            <a:noFill/>
          </a:ln>
        </p:spPr>
      </p:pic>
      <p:grpSp>
        <p:nvGrpSpPr>
          <p:cNvPr id="243" name="グループ化 1"/>
          <p:cNvGrpSpPr/>
          <p:nvPr/>
        </p:nvGrpSpPr>
        <p:grpSpPr>
          <a:xfrm>
            <a:off x="0" y="2495520"/>
            <a:ext cx="968400" cy="1887480"/>
            <a:chOff x="0" y="2495520"/>
            <a:chExt cx="968400" cy="1887480"/>
          </a:xfrm>
        </p:grpSpPr>
        <p:sp>
          <p:nvSpPr>
            <p:cNvPr id="244" name="正方形/長方形 7"/>
            <p:cNvSpPr/>
            <p:nvPr/>
          </p:nvSpPr>
          <p:spPr>
            <a:xfrm>
              <a:off x="0" y="3822840"/>
              <a:ext cx="968400" cy="560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正方形/長方形 17"/>
            <p:cNvSpPr/>
            <p:nvPr/>
          </p:nvSpPr>
          <p:spPr>
            <a:xfrm>
              <a:off x="0" y="2495520"/>
              <a:ext cx="968400" cy="13273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47" descr=""/>
          <p:cNvPicPr/>
          <p:nvPr/>
        </p:nvPicPr>
        <p:blipFill>
          <a:blip r:embed="rId3"/>
          <a:stretch/>
        </p:blipFill>
        <p:spPr>
          <a:xfrm>
            <a:off x="7910640" y="0"/>
            <a:ext cx="104760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テキスト ボックス 11"/>
          <p:cNvSpPr/>
          <p:nvPr/>
        </p:nvSpPr>
        <p:spPr>
          <a:xfrm>
            <a:off x="6931080" y="6513480"/>
            <a:ext cx="168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20840"/>
                <a:tab algn="l" pos="841320"/>
                <a:tab algn="l" pos="1262160"/>
                <a:tab algn="l" pos="1682640"/>
                <a:tab algn="l" pos="2103480"/>
                <a:tab algn="l" pos="2523960"/>
                <a:tab algn="l" pos="2944800"/>
                <a:tab algn="l" pos="3365640"/>
                <a:tab algn="l" pos="3786120"/>
                <a:tab algn="l" pos="4206960"/>
                <a:tab algn="l" pos="4627440"/>
                <a:tab algn="l" pos="5048280"/>
                <a:tab algn="l" pos="5468760"/>
                <a:tab algn="l" pos="5889600"/>
                <a:tab algn="l" pos="6310440"/>
                <a:tab algn="l" pos="6730920"/>
                <a:tab algn="l" pos="7151760"/>
                <a:tab algn="l" pos="7572240"/>
                <a:tab algn="l" pos="7993080"/>
                <a:tab algn="l" pos="8413920"/>
              </a:tabLst>
            </a:pPr>
            <a:r>
              <a:rPr b="0" lang="it-IT" sz="700" spc="-1" strike="noStrike">
                <a:solidFill>
                  <a:srgbClr val="404040"/>
                </a:solidFill>
                <a:latin typeface="Arial"/>
                <a:ea typeface="Meiryo"/>
              </a:rPr>
              <a:t>© 2016 Konica Minolta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正方形/長方形 9"/>
          <p:cNvSpPr/>
          <p:nvPr/>
        </p:nvSpPr>
        <p:spPr>
          <a:xfrm>
            <a:off x="0" y="774720"/>
            <a:ext cx="9134640" cy="189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0840"/>
                <a:tab algn="l" pos="841320"/>
                <a:tab algn="l" pos="1262160"/>
                <a:tab algn="l" pos="1682640"/>
                <a:tab algn="l" pos="2103480"/>
                <a:tab algn="l" pos="2523960"/>
                <a:tab algn="l" pos="2944800"/>
                <a:tab algn="l" pos="3365640"/>
                <a:tab algn="l" pos="3786120"/>
                <a:tab algn="l" pos="4206960"/>
                <a:tab algn="l" pos="4627440"/>
                <a:tab algn="l" pos="5048280"/>
                <a:tab algn="l" pos="5468760"/>
                <a:tab algn="l" pos="5889600"/>
                <a:tab algn="l" pos="6310440"/>
                <a:tab algn="l" pos="6730920"/>
                <a:tab algn="l" pos="7151760"/>
                <a:tab algn="l" pos="7572240"/>
                <a:tab algn="l" pos="7993080"/>
                <a:tab algn="l" pos="8413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図形グループ 10"/>
          <p:cNvGrpSpPr/>
          <p:nvPr/>
        </p:nvGrpSpPr>
        <p:grpSpPr>
          <a:xfrm>
            <a:off x="393840" y="0"/>
            <a:ext cx="106200" cy="774720"/>
            <a:chOff x="393840" y="0"/>
            <a:chExt cx="106200" cy="774720"/>
          </a:xfrm>
        </p:grpSpPr>
        <p:sp>
          <p:nvSpPr>
            <p:cNvPr id="286" name="正方形/長方形 7"/>
            <p:cNvSpPr/>
            <p:nvPr/>
          </p:nvSpPr>
          <p:spPr>
            <a:xfrm>
              <a:off x="393840" y="585720"/>
              <a:ext cx="106200" cy="189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正方形/長方形 16"/>
            <p:cNvSpPr/>
            <p:nvPr/>
          </p:nvSpPr>
          <p:spPr>
            <a:xfrm>
              <a:off x="393840" y="0"/>
              <a:ext cx="106200" cy="585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47" descr=""/>
          <p:cNvPicPr/>
          <p:nvPr/>
        </p:nvPicPr>
        <p:blipFill>
          <a:blip r:embed="rId2"/>
          <a:stretch/>
        </p:blipFill>
        <p:spPr>
          <a:xfrm>
            <a:off x="7910640" y="0"/>
            <a:ext cx="1047600" cy="7747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sldNum" idx="10"/>
          </p:nvPr>
        </p:nvSpPr>
        <p:spPr>
          <a:xfrm>
            <a:off x="8338680" y="6500520"/>
            <a:ext cx="973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000" spc="-1" strike="noStrike" u="sng">
                <a:solidFill>
                  <a:srgbClr val="7f7f7f"/>
                </a:solidFill>
                <a:uFillTx/>
                <a:latin typeface="Meiryo"/>
                <a:ea typeface="Meiry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0583-BDA0-45D2-8EBF-19213701449E}" type="slidenum">
              <a:rPr b="1" lang="ja-JP" sz="2000" spc="-1" strike="noStrike" u="sng">
                <a:solidFill>
                  <a:srgbClr val="7f7f7f"/>
                </a:solidFill>
                <a:uFillTx/>
                <a:latin typeface="Meiryo"/>
                <a:ea typeface="Meiryo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グループ化 6"/>
          <p:cNvGrpSpPr/>
          <p:nvPr/>
        </p:nvGrpSpPr>
        <p:grpSpPr>
          <a:xfrm>
            <a:off x="0" y="2495520"/>
            <a:ext cx="9144000" cy="1887480"/>
            <a:chOff x="0" y="2495520"/>
            <a:chExt cx="9144000" cy="1887480"/>
          </a:xfrm>
        </p:grpSpPr>
        <p:sp>
          <p:nvSpPr>
            <p:cNvPr id="327" name="正方形/長方形 17"/>
            <p:cNvSpPr/>
            <p:nvPr/>
          </p:nvSpPr>
          <p:spPr>
            <a:xfrm>
              <a:off x="0" y="2495520"/>
              <a:ext cx="9144000" cy="13273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正方形/長方形 18"/>
            <p:cNvSpPr/>
            <p:nvPr/>
          </p:nvSpPr>
          <p:spPr>
            <a:xfrm>
              <a:off x="0" y="3822840"/>
              <a:ext cx="9144000" cy="560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図 8" descr="GSI.png"/>
          <p:cNvPicPr/>
          <p:nvPr/>
        </p:nvPicPr>
        <p:blipFill>
          <a:blip r:embed="rId2"/>
          <a:stretch/>
        </p:blipFill>
        <p:spPr>
          <a:xfrm>
            <a:off x="1203480" y="6553080"/>
            <a:ext cx="1388880" cy="127080"/>
          </a:xfrm>
          <a:prstGeom prst="rect">
            <a:avLst/>
          </a:prstGeom>
          <a:ln w="0">
            <a:noFill/>
          </a:ln>
        </p:spPr>
      </p:pic>
      <p:sp>
        <p:nvSpPr>
          <p:cNvPr id="330" name="テキスト ボックス 9"/>
          <p:cNvSpPr/>
          <p:nvPr/>
        </p:nvSpPr>
        <p:spPr>
          <a:xfrm>
            <a:off x="6931080" y="6513480"/>
            <a:ext cx="168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20840"/>
                <a:tab algn="l" pos="841320"/>
                <a:tab algn="l" pos="1262160"/>
                <a:tab algn="l" pos="1682640"/>
                <a:tab algn="l" pos="2103480"/>
                <a:tab algn="l" pos="2523960"/>
                <a:tab algn="l" pos="2944800"/>
                <a:tab algn="l" pos="3365640"/>
                <a:tab algn="l" pos="3786120"/>
                <a:tab algn="l" pos="4206960"/>
                <a:tab algn="l" pos="4627440"/>
                <a:tab algn="l" pos="5048280"/>
                <a:tab algn="l" pos="5468760"/>
                <a:tab algn="l" pos="5889600"/>
                <a:tab algn="l" pos="6310440"/>
                <a:tab algn="l" pos="6730920"/>
                <a:tab algn="l" pos="7151760"/>
                <a:tab algn="l" pos="7572240"/>
                <a:tab algn="l" pos="7993080"/>
                <a:tab algn="l" pos="8413920"/>
              </a:tabLst>
            </a:pPr>
            <a:r>
              <a:rPr b="0" lang="it-IT" sz="700" spc="-1" strike="noStrike">
                <a:solidFill>
                  <a:srgbClr val="404040"/>
                </a:solidFill>
                <a:latin typeface="Arial"/>
                <a:ea typeface="Meiryo"/>
              </a:rPr>
              <a:t>© 2016 Konica Minolta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Num" idx="11"/>
          </p:nvPr>
        </p:nvSpPr>
        <p:spPr>
          <a:xfrm>
            <a:off x="8420040" y="6459120"/>
            <a:ext cx="79848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000" spc="-1" strike="noStrike" u="sng">
                <a:solidFill>
                  <a:srgbClr val="7f7f7f"/>
                </a:solidFill>
                <a:uFillTx/>
                <a:latin typeface="Meiryo"/>
                <a:ea typeface="Meiry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F0DD-E500-4D32-809E-F8A7B10D8095}" type="slidenum">
              <a:rPr b="1" lang="ja-JP" sz="2000" spc="-1" strike="noStrike" u="sng">
                <a:solidFill>
                  <a:srgbClr val="7f7f7f"/>
                </a:solidFill>
                <a:uFillTx/>
                <a:latin typeface="Meiryo"/>
                <a:ea typeface="Meiryo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Rounded MT Bold"/>
              </a:rPr>
              <a:t>Sample stability: Aliquot A @ R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4" name="Immagine 4" descr=""/>
          <p:cNvPicPr/>
          <p:nvPr/>
        </p:nvPicPr>
        <p:blipFill>
          <a:blip r:embed="rId1"/>
          <a:srcRect l="6941" t="30055" r="0" b="30055"/>
          <a:stretch/>
        </p:blipFill>
        <p:spPr>
          <a:xfrm>
            <a:off x="1127160" y="1341360"/>
            <a:ext cx="6889680" cy="4175280"/>
          </a:xfrm>
          <a:prstGeom prst="rect">
            <a:avLst/>
          </a:prstGeom>
          <a:ln w="0">
            <a:noFill/>
          </a:ln>
        </p:spPr>
      </p:pic>
      <p:cxnSp>
        <p:nvCxnSpPr>
          <p:cNvPr id="495" name="Connettore 2 2"/>
          <p:cNvCxnSpPr/>
          <p:nvPr/>
        </p:nvCxnSpPr>
        <p:spPr>
          <a:xfrm>
            <a:off x="3024000" y="3132000"/>
            <a:ext cx="144720" cy="4327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496" name="CasellaDiTesto 4"/>
          <p:cNvSpPr/>
          <p:nvPr/>
        </p:nvSpPr>
        <p:spPr>
          <a:xfrm>
            <a:off x="2560320" y="283536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00000"/>
                </a:solidFill>
                <a:latin typeface="Arial"/>
                <a:ea typeface="Arial"/>
              </a:rPr>
              <a:t>ex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sellaDiTesto 5"/>
          <p:cNvSpPr/>
          <p:nvPr/>
        </p:nvSpPr>
        <p:spPr>
          <a:xfrm>
            <a:off x="7563240" y="3743280"/>
            <a:ext cx="70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P=0.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asellaDiTesto 6"/>
          <p:cNvSpPr/>
          <p:nvPr/>
        </p:nvSpPr>
        <p:spPr>
          <a:xfrm>
            <a:off x="6880320" y="2028960"/>
            <a:ext cx="78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P=0.0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sellaDiTesto 7"/>
          <p:cNvSpPr/>
          <p:nvPr/>
        </p:nvSpPr>
        <p:spPr>
          <a:xfrm>
            <a:off x="7455600" y="4437000"/>
            <a:ext cx="70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P=0.05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sellaDiTesto 8"/>
          <p:cNvSpPr/>
          <p:nvPr/>
        </p:nvSpPr>
        <p:spPr>
          <a:xfrm>
            <a:off x="7383240" y="4967280"/>
            <a:ext cx="62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P=0.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Rounded MT Bold"/>
              </a:rPr>
              <a:t>Sample stability: Aliquot B @ +4 °C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2" name="Immagine 4" descr=""/>
          <p:cNvPicPr/>
          <p:nvPr/>
        </p:nvPicPr>
        <p:blipFill>
          <a:blip r:embed="rId1"/>
          <a:srcRect l="8426" t="31100" r="0" b="30055"/>
          <a:stretch/>
        </p:blipFill>
        <p:spPr>
          <a:xfrm>
            <a:off x="1133640" y="1366920"/>
            <a:ext cx="6876720" cy="4124160"/>
          </a:xfrm>
          <a:prstGeom prst="rect">
            <a:avLst/>
          </a:prstGeom>
          <a:ln w="0">
            <a:noFill/>
          </a:ln>
        </p:spPr>
      </p:pic>
      <p:sp>
        <p:nvSpPr>
          <p:cNvPr id="503" name="CasellaDiTesto 1"/>
          <p:cNvSpPr/>
          <p:nvPr/>
        </p:nvSpPr>
        <p:spPr>
          <a:xfrm>
            <a:off x="6807960" y="2965320"/>
            <a:ext cx="78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P=0.006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sellaDiTesto 4"/>
          <p:cNvSpPr/>
          <p:nvPr/>
        </p:nvSpPr>
        <p:spPr>
          <a:xfrm>
            <a:off x="7671240" y="3679920"/>
            <a:ext cx="70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P=0.0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sellaDiTesto 5"/>
          <p:cNvSpPr/>
          <p:nvPr/>
        </p:nvSpPr>
        <p:spPr>
          <a:xfrm>
            <a:off x="6303600" y="1736640"/>
            <a:ext cx="70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P=0.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sellaDiTesto 6"/>
          <p:cNvSpPr/>
          <p:nvPr/>
        </p:nvSpPr>
        <p:spPr>
          <a:xfrm>
            <a:off x="7342920" y="4386240"/>
            <a:ext cx="78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P=0.0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sellaDiTesto 7"/>
          <p:cNvSpPr/>
          <p:nvPr/>
        </p:nvSpPr>
        <p:spPr>
          <a:xfrm>
            <a:off x="7383240" y="4925880"/>
            <a:ext cx="62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P=0.5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1T13:56:12Z</dcterms:created>
  <dc:creator>braga.federica</dc:creator>
  <dc:description/>
  <dc:language>en-US</dc:language>
  <cp:lastModifiedBy>admin</cp:lastModifiedBy>
  <dcterms:modified xsi:type="dcterms:W3CDTF">2019-07-16T16:25:50Z</dcterms:modified>
  <cp:revision>210</cp:revision>
  <dc:subject/>
  <dc:title>Diapositiva 1</dc:title>
</cp:coreProperties>
</file>